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983-BB1E-42E0-9C09-6998A955B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CB7-A447-4FC1-B989-DD1143A6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0B8-9887-48CB-832E-A86C96C5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B9B-B662-4D92-AC57-60E6481A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78B-7C40-4FCE-A20D-92CBBB2D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D3C-C0E7-409A-B8B7-BFBFAEEA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12F6-F7C4-4AC2-AFEC-D0CE00F5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4CF-1AD8-4BD1-ABC5-CC4C3672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1F10-16B4-46D7-B741-EDA99ECD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3B8-4BE1-404E-8E2D-9275310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F5F-4F0B-4E03-92FF-894DF824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ACB-3E81-47E6-BB34-A5EAFBD3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F919-A774-4E19-AC1D-852B7E585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997000" cy="350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9000" y="76320"/>
            <a:ext cx="51814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Lektion 1</a:t>
            </a:r>
            <a:r>
              <a:rPr b="1" lang="en-US" sz="2400" spc="-1" strike="noStrike">
                <a:solidFill>
                  <a:srgbClr val="cc3399"/>
                </a:solidFill>
                <a:latin typeface="Bauhaus 93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.  Which are names for girls, which are names for boys?  Write them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2.  In which names are these letters?  Write them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3.  What are the names of the animals?  Write them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4.  What are the correct names of the animals?  Read it aloud and then write them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5.  Solve the puzz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6.  Which animals live in the water, in the forest or in the zoo?  Write your ans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7a.  Match the picture and work.  What is the solu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7b.  Which animals in exercise 7 in your text are missing?  Write them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962520"/>
            <a:ext cx="868680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8.  Which animal names are hidden in the snake?  Write them in your no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9.  Find 13 animal n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0.  Who needs these things? Write them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1.  Write the words correc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2. Connect the letters in the right ord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3.  ABC – Fill in the appropriate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4. Match the pictures with the correct letter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6386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*Ü = Übung, which means exercise, not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8:27:52Z</dcterms:created>
  <dc:creator>udsd</dc:creator>
  <dc:description/>
  <dc:language>en-US</dc:language>
  <cp:lastModifiedBy>udsd</cp:lastModifiedBy>
  <dcterms:modified xsi:type="dcterms:W3CDTF">2009-09-29T17:38:02Z</dcterms:modified>
  <cp:revision>3</cp:revision>
  <dc:subject/>
  <dc:title>Slide 1</dc:title>
</cp:coreProperties>
</file>